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709-534B-4062-91AF-4A86BCC6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5E4-F473-4A92-A7C7-A032ACC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BF4-BCE8-4D62-9033-8ABE8714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0D5-0986-4A00-A368-0E08A06A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31E-8405-4BC6-A086-A74D8C4B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0ED-CB41-4CD3-9ACF-C7DE483E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A86-117B-4551-BA1A-5387A81D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9CD-AB6F-4347-A21F-52443441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4D2-20F1-4DD6-939A-B6AC9684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EFC-A7C5-4161-A337-96D08AB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653-1DAE-4CC4-99A0-4366BA4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4FD-C938-4FCF-8963-F80B842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DF2B-F352-4214-87EE-F5F67A8376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.jpg"/>
          <p:cNvPicPr/>
          <p:nvPr/>
        </p:nvPicPr>
        <p:blipFill>
          <a:blip r:embed="rId1"/>
          <a:stretch/>
        </p:blipFill>
        <p:spPr>
          <a:xfrm>
            <a:off x="571680" y="1832040"/>
            <a:ext cx="1293480" cy="111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ext W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•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I am trying to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get this text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to wr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•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This is of course not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supported in any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PowerPoint version to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date.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286160" y="214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j0431520.png"/>
          <p:cNvPicPr/>
          <p:nvPr/>
        </p:nvPicPr>
        <p:blipFill>
          <a:blip r:embed="rId1"/>
          <a:stretch/>
        </p:blipFill>
        <p:spPr>
          <a:xfrm>
            <a:off x="285840" y="1714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375e"/>
                </a:solidFill>
                <a:latin typeface="Calibri"/>
              </a:rPr>
              <a:t>Irregular Sha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You will need to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use more tab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stops if the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shape is not rectangular or maybe the odd spa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8:48:33Z</dcterms:created>
  <dc:creator>John Wilson</dc:creator>
  <dc:description/>
  <dc:language>en-US</dc:language>
  <cp:lastModifiedBy>John Wilson</cp:lastModifiedBy>
  <dcterms:modified xsi:type="dcterms:W3CDTF">2008-03-27T10:31:40Z</dcterms:modified>
  <cp:revision>10</cp:revision>
  <dc:subject/>
  <dc:title>Slide 1</dc:title>
</cp:coreProperties>
</file>